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FF35F-B32A-4B07-AF1D-4552C2AB669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D7D6A-FE5D-40BD-B6A8-28B47B7ED87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79B6-B70A-4A55-8D87-8A5B16531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376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12040"/>
            <a:ext cx="7772400" cy="16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0AF6-744E-432F-8F5F-1E767BF9A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376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6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6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12040"/>
            <a:ext cx="3792600" cy="16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12040"/>
            <a:ext cx="3792600" cy="16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8932-16AE-420E-9C97-08C4392FA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376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6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6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6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12040"/>
            <a:ext cx="2502360" cy="16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12040"/>
            <a:ext cx="2502360" cy="16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12040"/>
            <a:ext cx="2502360" cy="16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27D1-91BB-4785-B4BD-4A8D8E848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376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5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B820-BE5D-45D2-B36A-B6B2644F6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376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0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86AB-699B-4F0C-ACFA-E391DE58C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376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50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50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61E3-E5BB-4DCE-9DDC-9BB3AD7F0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376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5FFD-25C1-4986-A72A-6DBB14D0B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37680"/>
            <a:ext cx="77724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5BAB-37D2-452D-AA25-E90D5C13A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376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6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50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12040"/>
            <a:ext cx="3792600" cy="16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3A9D-A108-44C1-AF0B-B9EBFF48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376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50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6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12040"/>
            <a:ext cx="3792600" cy="16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C72A-B35E-467D-89E7-7FA87C84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376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6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6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12040"/>
            <a:ext cx="7772400" cy="16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7322-4F7B-4635-8647-39C3C1E1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376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50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39480" indent="-3394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39480" indent="-3394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39480" indent="-3394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39480" indent="-3394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39480" indent="-3394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39480" indent="-3394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B6278-BE10-4AC3-8DD8-307AEB00B47E}" type="slidenum">
              <a:rPr b="0" lang="cs-CZ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Zástupný symbol pro číslo snímku 5"/>
          <p:cNvSpPr/>
          <p:nvPr/>
        </p:nvSpPr>
        <p:spPr>
          <a:xfrm>
            <a:off x="9000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9890B-FA03-478D-8F93-7DAAFECCB492}" type="slidenum">
              <a:rPr b="0" lang="cs-CZ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Škodlivé užívání a závislost na alkoholu  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03280" y="2565360"/>
            <a:ext cx="64008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Jarmila Šmoldasov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linika psychiatrie FN Olomou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Arial"/>
              </a:rPr>
              <a:t>Prevence škodlivého užívání návykových látek a léčba závislostí 20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4" descr="C:\Users\62476\Desktop\Baju\logo-FNOL3.jpg"/>
          <p:cNvPicPr/>
          <p:nvPr/>
        </p:nvPicPr>
        <p:blipFill>
          <a:blip r:embed="rId1"/>
          <a:stretch/>
        </p:blipFill>
        <p:spPr>
          <a:xfrm>
            <a:off x="324000" y="5805360"/>
            <a:ext cx="114768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771A2-E5B1-40A6-855D-EEDE4CEDD377}" type="slidenum">
              <a:rPr b="0" lang="cs-CZ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376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hled na nadměrnou konzumaci alkoholu V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2007720"/>
            <a:ext cx="861048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 letech 1933 – 1935 končí období prohibice ve 33 státech USA, aniž by přinesla dlouhodobě očekávané snížení konzumace alkoholu ( stejně jako později v SSSR či severských zemích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 první polovině 20.století se organizuje skupina kolem dr. E. M. Jellineka, která má shromáždit a vysvětlit způsoby nadužívání alkoholu a dopady na lidský organism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341BC-1533-4889-9232-BD66BFE70536}" type="slidenum">
              <a:rPr b="0" lang="cs-CZ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376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hled na nadměrnou konzumaci alkoholu VI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 roce 1935 v USA vzniká hnutí Anonymních alkoholik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 roku 1943 je závislost na alkoholu označována jako nemo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 roce 1951 dochází k zmedicinizování problému WH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3A0B4-FAEC-4F90-B374-508AC4DFBDDD}" type="slidenum">
              <a:rPr b="0" lang="cs-CZ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85360"/>
            <a:ext cx="7772400" cy="5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Historie na Moravě 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1900 – v Brně vzniká první spolek abstinentů – Hybe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1908 – založen Českoslovanský abstinenční svaz. T. G. Masaryk brojí proti nadměrnému pití alkohol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1909 – protialkoholní léčebna ve Velkých Kunčicích na Moravě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1910 – první protialkoholní poradna v Brn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3CFDA-F2FD-4294-8C3D-F2AE925E5669}" type="slidenum">
              <a:rPr b="0" lang="cs-CZ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85360"/>
            <a:ext cx="7772400" cy="5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Historie v českých zemích I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5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1039 – Břetislav I. – protialkoholní zák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1948 – doc. Jaroslav Ská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akládá v Praze Apolinář při Psychiatrické klinice a rozbíhá se KLUS ( Klub usilující o střízlivost), v roce 1951 zakládá záchytnou stanici tamté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kálův psychoterapeutický institut , S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Graphic1"/>
          <p:cNvPicPr/>
          <p:nvPr/>
        </p:nvPicPr>
        <p:blipFill>
          <a:blip r:embed="rId1"/>
          <a:stretch/>
        </p:blipFill>
        <p:spPr>
          <a:xfrm>
            <a:off x="0" y="498600"/>
            <a:ext cx="91440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4652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Doc. MUDr. Jaroslav Skála, CSc.</a:t>
            </a:r>
            <a:br>
              <a:rPr sz="36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25.5. 1916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†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25.11. 2007</a:t>
            </a:r>
            <a:br>
              <a:rPr sz="4000"/>
            </a:b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7" descr="Skála"/>
          <p:cNvPicPr/>
          <p:nvPr/>
        </p:nvPicPr>
        <p:blipFill>
          <a:blip r:embed="rId1"/>
          <a:stretch/>
        </p:blipFill>
        <p:spPr>
          <a:xfrm>
            <a:off x="2124000" y="1693800"/>
            <a:ext cx="496908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Epidemiologie užívání alkoholu ve světě a v Č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981080"/>
            <a:ext cx="7772400" cy="35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ejvětší konzumenti v Evropě - ČR, Andora, Estonsk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ejvětší počet abstinentů – islámské zem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ejvyšší počet závislých – Polsko, Brazíl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Zástupný symbol pro číslo snímku 1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4C6F0-A226-471F-9D4E-9A36E19E77AC}" type="slidenum">
              <a:rPr b="0" lang="cs-CZ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376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Epidemiologie užívání alkoholu ve světě a v Č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980720"/>
            <a:ext cx="7772400" cy="60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V ČR v obecné populaci 10 % abstinentů, denně pije 7,7 – 9,5 % obyv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6 až 9,3 % české populace konzumuje alkohol  škodlivě  ( 7,4% mužů ,4,7% že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6,9 – 9,3 % populace konzumuje alkohol rizikově ( obojí až 1,6 mil.lidí)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21 828 léčených uživatelů v ambulancích v roce 201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Zástupný symbol pro číslo snímku 1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CE4D7-FF61-432B-A88A-216B87C7815C}" type="slidenum">
              <a:rPr b="0" lang="cs-CZ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376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Epidemiologie užívání alkoholu ve světě a v Č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980720"/>
            <a:ext cx="77724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le WHO  (2013) spotřeba čistého alkoholu v ČR na osob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15,48 litr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e všechen alkohol z legálních zdrojů, nejvíce nelegálního je v Moldávii a na Ukrajině v ČR 1,48 litru na osob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Zástupný symbol pro číslo snímku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E7DFD-70C2-4415-8FBD-D9AFC29C6E79}" type="slidenum">
              <a:rPr b="0" lang="cs-CZ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7A6A0-253C-4648-9C0A-4902C96658B0}" type="slidenum">
              <a:rPr b="0" lang="cs-CZ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5943600" cy="5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tatistické údaj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09320" y="1066320"/>
            <a:ext cx="678204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 roce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1936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byla spotřeba etylalkoholu v Československu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3,4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litru na hlavu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současné době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15,48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litrů legálního etylalkohol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8,60 l v piv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(160 litrů piva na osobu za ro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2,35 l ve vín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3,96 l v destiláte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 EU spotřeba etylalkoholu 12-13 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 USA 9,1 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4" descr="sklenice"/>
          <p:cNvPicPr/>
          <p:nvPr/>
        </p:nvPicPr>
        <p:blipFill>
          <a:blip r:embed="rId1"/>
          <a:stretch/>
        </p:blipFill>
        <p:spPr>
          <a:xfrm>
            <a:off x="0" y="27000"/>
            <a:ext cx="2095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CD4A1-AA28-4CFC-AF64-BC9999E2291C}" type="slidenum">
              <a:rPr b="0" lang="cs-CZ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773000"/>
            <a:ext cx="7772400" cy="22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Alkohol je pro lidský mozek tím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čím je písek v ložisku stroj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boje znemožňuje pracovní výkon.“                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5258520" y="5105520"/>
            <a:ext cx="239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T. A. Ed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55640" y="13680"/>
            <a:ext cx="7772400" cy="157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Epidemiologie užívání alkoholu  v ČR</a:t>
            </a:r>
            <a:br>
              <a:rPr sz="3600"/>
            </a:b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alkohol u studentů 1.LF UK 18- 25 let (Burešová, Z., Vacek, J. 201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981080"/>
            <a:ext cx="7772400" cy="55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807 studentů 593 žen a 214 mužů z 13 obor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otázky ze studie ESPAD 2007 a CAGE dotazní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posledních 30 ti dnech konzumovalo alkohol 88% studentů, opilo se 12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kóru vyššího než 1 v CAGE dotazník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osáhlo 19 % ( 17 % lékařských a 26 % nelékařských oborů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Zástupný symbol pro číslo snímku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24FAB-A755-451B-AF68-5A29A35113F9}" type="slidenum">
              <a:rPr b="0" lang="cs-CZ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376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CAGE dotazní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980720"/>
            <a:ext cx="7772400" cy="447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1 ) Cítil jste někdy potřebu své pití snížit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2)  Dráždila Vás někdy kritika vašeho pití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)  Měl jste kvůli svému pití pocity viny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4)  Pil jste někdy po ránu, za účelem probrání se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83880"/>
            <a:ext cx="7772400" cy="158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Epidemiologie užívání alkoholu  v ČR</a:t>
            </a:r>
            <a:br>
              <a:rPr sz="3600"/>
            </a:b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alkohol u studentů 1.LF UK 18- 25 let (Burešová, Z., Vacek, J. 201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1981080"/>
            <a:ext cx="7772400" cy="55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ůměrný věk prvního požití alkoholu 13,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ombinace alkoholu s jinou látkou ( s výjimkou cigaret) marihuanou a léky 18% ( muži 21%, ženy 16 %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Opilost zažilo za život 70 %, v posledním měsíci 12 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měr studentů, kteří se nikdy neopili v nelékařských oborech 40 % ku 27 % v lékařských obore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Zástupný symbol pro číslo snímku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E2257-B289-47F7-BA46-77381EF47D41}" type="slidenum">
              <a:rPr b="0" lang="cs-CZ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83880"/>
            <a:ext cx="7772400" cy="158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Epidemiologie užívání alkoholu  v ČR</a:t>
            </a:r>
            <a:br>
              <a:rPr sz="3600"/>
            </a:b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alkohol u studentů 1.LF UK 18- 25 let (Burešová, Z., Vacek, J. 201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981080"/>
            <a:ext cx="77724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rizikové chování související s užíváním alkoholu 3 otázk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o samotě užilo alkohol 34 % student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před polednem pilo 25 % student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sex s neznámým partnerem pod vlivem alkoholu mělo 15 % student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čet abstinentů 1.LF UK 4,5 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Zástupný symbol pro číslo snímku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AF70-E398-450D-8C62-9E0F6E75574D}" type="slidenum">
              <a:rPr b="0" lang="cs-CZ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06750-0B80-4EC1-AA81-B6A152B18E28}" type="slidenum">
              <a:rPr b="0" lang="cs-CZ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337680"/>
            <a:ext cx="84582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5-letá studie o užívání alkoholu</a:t>
            </a:r>
            <a:br>
              <a:rPr sz="3600"/>
            </a:b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žáků 7. tříd ZŠ - 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2404800"/>
            <a:ext cx="838224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Celoživotní zkušenost s alkoholem: 91,5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 posledním roce: 76,8 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ejčastěji pivo a ví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21,5% užilo 5 a více sklenic alkoholu za sebou během posledního měsí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1905120" y="14479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(Miovský, Miovská, Trapková, Ře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1A9FC-E423-4E99-9586-FBE4C369DFA1}" type="slidenum">
              <a:rPr b="0" lang="cs-CZ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800" y="1992240"/>
            <a:ext cx="77724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pi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39,9% žáků bylo někdy ve svém životě opilý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a poslední rok zažilo 24,5 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a poslední měsíc 10,1% ( 20 % 15 letýc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ecelá polovina žáků pila naposledy alkohol do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685800" y="3376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5-letá studie o užívání alkoholu</a:t>
            </a:r>
            <a:br>
              <a:rPr sz="3600"/>
            </a:b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žáků 7. tříd ZŠ - I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1905120" y="14479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(Miovský, Miovská, Trapková, Ře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376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ýsledky realizovaných školních studií HBSC 14, ESPAD 15,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1980720"/>
            <a:ext cx="7772400" cy="30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výrazný pokles kouření i konzumu alkoholu u školní mládež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míra rizikového chování narůstá s věk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nlejvyšší mezi 13. a 14. rokem souvisí s typem studované školy ( více učňovské škol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Zástupný symbol pro číslo snímku 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1DCC1-2F71-44EC-99D6-58BCB96BD923}" type="slidenum">
              <a:rPr b="0" lang="cs-CZ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B5EC1-B36F-4A90-AC60-C47732236898}" type="slidenum">
              <a:rPr b="0" lang="cs-CZ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5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Škody způsobené alkoholem v E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2206440"/>
            <a:ext cx="8534160" cy="48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Alkohol je příčinou každého osmého úmrtí ve věkové kategorii 15 -64 l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Alkohol –karcinogen ( jícen, tlusté střevo,konečník, ca prsu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ýznamnou roli hraje množství alkoholu v gramech – nutno stanovit pevnou cenu za 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B – udělala opatření , odstranění 8 miliard gramů alkoholu z trh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Alkohol je třetí nejvýznamnější zdravotní riziko v EU za kouřením tabáku a vysokým krevním tlak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BD5F4-5205-4D45-8D2A-05BC2524FF69}" type="slidenum">
              <a:rPr b="0" lang="cs-CZ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83920"/>
            <a:ext cx="7772400" cy="5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ýskyt alkoholismu dle pohlav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5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o 70. let minulého století byl počet protialkoholně léčený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ženy : muži = 1 : 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(údaj stejný jako v roce 191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roce 199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ženy : muži = 1 :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Rok 1994 - ústavně léčeno v  2 146 ž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Rok 2009 – 3 17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0910A-9721-4816-A4A8-B10D078F81BE}" type="slidenum">
              <a:rPr b="0" lang="cs-CZ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85360"/>
            <a:ext cx="7772400" cy="5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ztah k alkohol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7724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abstin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onzu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tandardní pití“ v Evropě je 10 g etanolu denně ( 1 dcl vína, 1/3 I p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ij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ysoce rizikové pití u mužů je více než 60 g etanolu za den a u žen 40 g etanolu za d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ávisl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82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ěco z histori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980720"/>
            <a:ext cx="777240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5 – 7 000 l.př.Kr. země úrodného půlměsíce alkoholický nápoj z med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ivo dříve než písm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Egypt, Sumerové, Mezopotámie více druhů piva – ulušin (sladké),kaš kal (silné), kaš gig ( tmavé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Bohyně Niniv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Zástupný symbol pro číslo snímku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9F026-99D6-41AE-BD3A-0AFF3474F24E}" type="slidenum">
              <a:rPr b="0" lang="cs-CZ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20D47-F4BC-4822-9889-C192A84D1F23}" type="slidenum">
              <a:rPr b="0" lang="cs-CZ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85360"/>
            <a:ext cx="7772400" cy="5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lasifikac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le MKN – 10 diagnostikujem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akutní intoxikac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škodlivé užívání (abuzu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yndrom závislo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vykací stav a odvykací stav s deliri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sychotickou poruch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amnestický synd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376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chematické rozdělení stupňů alkoholické opilosti podle Hirta(1999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85800" y="1980720"/>
            <a:ext cx="7772400" cy="496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0,21- 0,30 g/kg - hladina není pro silniční dopravu významn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0,31- 0,49 g/kg – jedinec požil alkoholický nápoj,pitím je prakticky neovlivněný (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0,50 – 0,99 g/kg – Podnapilost (pronikavé prodloužení reakčního času, horší vnímání barev, rovnováh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0,80 g/kg a víc – řidič není schopen bezpečně řídit motorové vozid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1,00 – 1,49 g/kg – Lehký stupeň opil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Zástupný symbol pro číslo snímku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F2851-CF47-48DB-9507-1A4D9CCA5DA4}" type="slidenum">
              <a:rPr b="0" lang="cs-CZ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83880"/>
            <a:ext cx="7772400" cy="158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chematické rozdělení stupňů alkoholické opilosti podle Hirta (1999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1981080"/>
            <a:ext cx="77724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1,50 – 1,99 g/kg – Středně těžký stupeň opil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2,00 – 2,99 g/kg -  Těžký stupeň opil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,00 – 3,99 g/kg – Otrava alkoho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4,00 – a víc  - Smrtelná otrava alkoho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Zástupný symbol pro číslo snímku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665B2-7F23-4621-8C4A-BFA7EDCD843A}" type="slidenum">
              <a:rPr b="0" lang="cs-CZ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582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mrt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4360" y="1989000"/>
            <a:ext cx="7772400" cy="600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roce 2018- 409 + na předávkování ethanolem ( obecný regist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roce 2018  - soudně lékařská odd. hlásí 766 alkohol. úmrtí, z toho 219 přímých a 557nepřímých – nehoda, sebevražda, napade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roce 2014  7 předávkování metano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roce 2013  9 předávkování metano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roce 2012  36 předávkování metano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Zástupný symbol pro číslo snímku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21721-8EC7-44CE-8916-6369A7BEED60}" type="slidenum">
              <a:rPr b="0" lang="cs-CZ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583920"/>
            <a:ext cx="7772400" cy="5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Farmakokinetika/ dynamika alkohol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1980720"/>
            <a:ext cx="77724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oncentrace  alkoholu v krvi – nejvyšší za hodinu po požit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Likvidace – oxidací, dechem, moč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Alkoholoxidáza – u člověka až v 5 lete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prvním období závislosti tolerance stoupá,později kles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kles hladiny alkoholu v krvi 0,1 – 0,2 g/kg za hodin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Zástupný symbol pro číslo snímku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2E1A1-A273-4A28-84FD-56699A649D03}" type="slidenum">
              <a:rPr b="0" lang="cs-CZ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582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Intoxikace alkoholem léčb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1981080"/>
            <a:ext cx="7772400" cy="35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laváž do 30 min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orekce hypoterm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Glukóza 10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Tekutiny, elektrolyty s thiamin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Hemodialý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especifické antidotum Nalox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Zástupný symbol pro číslo snímku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CAB0F-0EB2-4C93-8052-D7B24EC6DFED}" type="slidenum">
              <a:rPr b="0" lang="cs-CZ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582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if.dg. intoxikace alkohol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1980720"/>
            <a:ext cx="77724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hypo či hyperglykém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hepatální ko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eurologické poruchy , úraz C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ealkoholová lát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Zástupný symbol pro číslo snímku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88BC5-005E-4818-A0CA-E1328A6CF348}" type="slidenum">
              <a:rPr b="0" lang="cs-CZ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582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etylalkoho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4360" y="1404720"/>
            <a:ext cx="7772400" cy="54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0 ml – 240 ml úmrt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15 ml – oslepnut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Léčb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150 ml 40 % destilá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Infuse etanolu 1-1,5g/kg ( 7-10 gr etanolu za hodinu), 5% etylakohol v 5% glukó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hemodialýza + bikarboná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FOMEPIZOL – blokace alkoholdehydrogenázy, (formaldehyd, k. mravenčí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Zástupný symbol pro číslo snímku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E98F4-E710-4498-A546-402F34EB1018}" type="slidenum">
              <a:rPr b="0" lang="cs-CZ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582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g. Kritéria závislosti na alkohol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1988640"/>
            <a:ext cx="7772400" cy="52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 posledním roce nepravidelně nebo měsíc soustavně 3 z níže uvedenéh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ilná 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touha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nebo pocit puzení požívat alkohol ( bažení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tráta 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kontroly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pit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i vysazení 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odvykací potíže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psychické a fyzick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Zástupný symbol pro číslo snímku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F4C9E-AA96-4C32-9A91-56F252E66D26}" type="slidenum">
              <a:rPr b="0" lang="cs-CZ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Zástupný symbol pro obsah 2"/>
          <p:cNvSpPr/>
          <p:nvPr/>
        </p:nvSpPr>
        <p:spPr>
          <a:xfrm>
            <a:off x="611280" y="19162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82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g. Kritéria závislosti na alkohol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11280" y="1916280"/>
            <a:ext cx="77724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ůkaz </a:t>
            </a: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tolerance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(zvýšení a snížení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Zanedbávání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zájmů ve prospěch alkohol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Pokračování zneužívání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alkoholu přes zjevné poškození organism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Zástupný symbol pro číslo snímku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E8F35-EF2A-4EC2-8F61-4565BBF48EC7}" type="slidenum">
              <a:rPr b="0" lang="cs-CZ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4ACA-F2A7-47C3-816F-673FE06B3B8A}" type="slidenum">
              <a:rPr b="0" lang="cs-CZ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5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ěco z histori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30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mytologiích různých národů se praví, že víno darovali jednotlivým národům božstva a jeho konzumace vzhledem k jeho mystickému charakteru není tolik odsuzována jako nadužívání jiných alkoholických nápoj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609480" y="464832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ruhá strana mince – alkohol je nejstarší a nerozšířenější psychotropní drogou na světě a v českých zemích droga č.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DF7A0-6B0D-4CD5-81E9-ED73251C9069}" type="slidenum">
              <a:rPr b="0" lang="cs-CZ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583920"/>
            <a:ext cx="7772400" cy="5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Etiologie závislost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305560" cy="48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bio-psycho-socio-spirituální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ávislá matka – plod – F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vlivnění jedince během porodu, během vývo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ociální vlivy, postavení rodiny, chybění rodiny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identifik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piritualita se obrací k intimním prožitkům každodenního snažení (vyšší moc u A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ávislost na alkoholu je chronické, recidivující                 onemocně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7772400" cy="5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sychotropní účinek alkohol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981080"/>
            <a:ext cx="7772400" cy="35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prostředkován ovlivněním několika neurotransmiterových systémů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opaminergníh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oradrenergníh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Opioidníh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GABAergníh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Zástupný symbol pro číslo snímku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810CF-2883-4713-B8A1-BC42FBEE79F2}" type="slidenum">
              <a:rPr b="0" lang="cs-CZ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582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činek alkohol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85800" y="1981080"/>
            <a:ext cx="7772400" cy="496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louhodobé užívání alkoholu posilňuje aktivitu glutamátového systému, kterou se kompenzuje inhibiční účinek alkohol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řevážně zprostředkovaný GABA neurony. Zvýšená aktivita glutamátového systému při náhlém vysazení alkoholu vede k různým klinickým projevům ( např.k epileptickým paroxysmů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Zástupný symbol pro číslo snímku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FBBB5-9E6F-4147-8C1B-B9048500B805}" type="slidenum">
              <a:rPr b="0" lang="cs-CZ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39D5F-FF1E-452D-87B9-27C072B3B03B}" type="slidenum">
              <a:rPr b="0" lang="cs-CZ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520" y="337680"/>
            <a:ext cx="84582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Elwin Morton Jellinek (1960):</a:t>
            </a:r>
            <a:br>
              <a:rPr sz="3600"/>
            </a:b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5 typů abuzu či závislosti na alkoholu 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 roce 1960 Jellinek popsal 5 typů abuzu či závislosti na alkoholu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Alf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edisciplinované pití ( excesy, společenské potíže), psychická závis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Be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ení psychická ani fyzická závislost, dochází k somatickým komplikací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361F1-DB96-480D-B934-53FCF6007C91}" type="slidenum">
              <a:rPr b="0" lang="cs-CZ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83880"/>
            <a:ext cx="8458200" cy="158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ellinek (1960):</a:t>
            </a:r>
            <a:br>
              <a:rPr sz="3600"/>
            </a:b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5 typů škodlivého užívání či závislosti na alkoholu I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69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Del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románský typ, nedochází ke ztrátě  kontroly pití, ale je silná fyzická závislost, nedochází k nadměrné opilosti, ale ani střízlivos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Epsil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kvartální pijáctví, symptomatické pití, duální dg. – deprese, bipolární afektivní porucha,mentální anorexi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Ga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anglosaský typ , charakterizován zvýšenou tolerancí a ztrátou kontroly pití, schopností abstinovat, vytváří se silná psychická i fyzická závisl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4732B-970B-485E-A028-1756B135E0E9}" type="slidenum">
              <a:rPr b="0" lang="cs-CZ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376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4 fáze alkoholismu</a:t>
            </a:r>
            <a:br>
              <a:rPr sz="3600"/>
            </a:b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(Jellinek, typ gam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39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I. počáteční fá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íležitostné pití, mající společenský charakter, zvyšuje se tolerance, psychická závis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II. prodromální (varovná) fá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ilná psychická vazba s cravingem, stoupá tolerance, častá opilost, „okénka“, vytváří se vazba fyzická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7571B-4333-4F42-84EB-117EDA461320}" type="slidenum">
              <a:rPr b="0" lang="cs-CZ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376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4 fáze alkoholismu</a:t>
            </a:r>
            <a:br>
              <a:rPr sz="3600"/>
            </a:b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(Jellinek, typ gam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III. kruciální (rozhodující) fá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ztráta kontroly pití, racionalizace, psychická i fyzická závislost, společenské a zdravotní potíže, tolerance se postupně snižuje, při vysazení abstinenční příznaky, je snazší abstinovat než pít s mírou. Potřeba pomoc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IV. terminální fá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oustavné požívání alkoholu, kritičnost minimální, pití technického líhu, voňavek, okeny, psychické a fyzické chátrání, změny osobnosti, tolerance výrazně snížená, dochází k rozvoji psychóz a suicidálnímu jednání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74035-CE0F-4701-AB89-A36C2F177E3B}" type="slidenum">
              <a:rPr b="0" lang="cs-CZ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583920"/>
            <a:ext cx="7772400" cy="5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tav spojený s odvykání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9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ři náhlém vysazení alkoholu do několika hodin až 4-5ti dnů nebo naopak při opětovném napití 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 tremor             - tachykard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 pocení             - hypertenz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insomnia         - cephalea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anxieta            - GIT potíže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ilu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B0BF-F6F9-4280-A761-D068F1C30128}" type="slidenum">
              <a:rPr b="0" lang="cs-CZ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10680"/>
            <a:ext cx="7772400" cy="113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tav spojený s odvykáním – léčb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0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Benzodiazepiny  - Diazepam, Oxazep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( dle stavu 30 – 50mg /den Diazepamu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Tiaprid – 300 – 800mg / 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Tiaprid + Benzodiazepi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Antiepileptika – Carbamazep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D8E22-A103-4138-8700-B61D359125F7}" type="slidenum">
              <a:rPr b="0" lang="cs-CZ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376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elirium tremens – předneseme později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5" descr="bílé myšky"/>
          <p:cNvPicPr/>
          <p:nvPr/>
        </p:nvPicPr>
        <p:blipFill>
          <a:blip r:embed="rId1"/>
          <a:stretch/>
        </p:blipFill>
        <p:spPr>
          <a:xfrm>
            <a:off x="2411280" y="1916280"/>
            <a:ext cx="4305600" cy="39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E8A83-74DD-4F5A-BFBE-F10532DFD989}" type="slidenum">
              <a:rPr b="0" lang="cs-CZ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9164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hled na nadměrnou konzumaci alkoholu I</a:t>
            </a:r>
            <a:r>
              <a:rPr b="0" lang="cs-CZ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971800" y="2057400"/>
            <a:ext cx="5943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říve:  1792-1750 př.Kr. Babylon Chamurapii-sm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tarověká Čína trestá rovněž nadměrnou konzumaci alkoholu smrtí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e starém Egyptě a později v Římě dávali před hostince kostry s nápisem „memento mori“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4" descr="Egypt Woman"/>
          <p:cNvPicPr/>
          <p:nvPr/>
        </p:nvPicPr>
        <p:blipFill>
          <a:blip r:embed="rId1"/>
          <a:stretch/>
        </p:blipFill>
        <p:spPr>
          <a:xfrm>
            <a:off x="152280" y="1905120"/>
            <a:ext cx="26085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5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Alkoholická halucinóz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3760" y="1447920"/>
            <a:ext cx="3733560" cy="41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ropuká náhle po dlouhodobém požívání alkoho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uže 4x častěj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luchové a zrakové halucin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Zachována  orientace osobou,časem, místem i situac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4" descr="Piják Absinthu"/>
          <p:cNvPicPr/>
          <p:nvPr/>
        </p:nvPicPr>
        <p:blipFill>
          <a:blip r:embed="rId1"/>
          <a:stretch/>
        </p:blipFill>
        <p:spPr>
          <a:xfrm>
            <a:off x="152280" y="1314360"/>
            <a:ext cx="5105520" cy="378936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205" name="Rectangle 5"/>
          <p:cNvSpPr/>
          <p:nvPr/>
        </p:nvSpPr>
        <p:spPr>
          <a:xfrm>
            <a:off x="380880" y="56545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Léčba – neuroleptika a abstin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3376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Alkoholická halucinóza- co se halucinuje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85800" y="1980720"/>
            <a:ext cx="7772400" cy="2529000"/>
          </a:xfrm>
          <a:prstGeom prst="rect">
            <a:avLst/>
          </a:prstGeom>
          <a:ln w="0">
            <a:noFill/>
          </a:ln>
        </p:spPr>
      </p:pic>
      <p:sp>
        <p:nvSpPr>
          <p:cNvPr id="208" name="Zástupný symbol pro číslo snímku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0D17F-7AC9-49B6-9CDC-D58798DBB887}" type="slidenum">
              <a:rPr b="0" lang="cs-CZ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2" descr="J:\Bílá paní.jpg"/>
          <p:cNvPicPr/>
          <p:nvPr/>
        </p:nvPicPr>
        <p:blipFill>
          <a:blip r:embed="rId2"/>
          <a:stretch/>
        </p:blipFill>
        <p:spPr>
          <a:xfrm>
            <a:off x="179280" y="1557360"/>
            <a:ext cx="3353040" cy="24480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J:\cerny-bezici-kun.jpg"/>
          <p:cNvPicPr/>
          <p:nvPr/>
        </p:nvPicPr>
        <p:blipFill>
          <a:blip r:embed="rId3"/>
          <a:stretch/>
        </p:blipFill>
        <p:spPr>
          <a:xfrm>
            <a:off x="5148360" y="1628640"/>
            <a:ext cx="3263760" cy="2448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J:\čert.jpg"/>
          <p:cNvPicPr/>
          <p:nvPr/>
        </p:nvPicPr>
        <p:blipFill>
          <a:blip r:embed="rId4"/>
          <a:stretch/>
        </p:blipFill>
        <p:spPr>
          <a:xfrm>
            <a:off x="324000" y="44370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J:\ledńáček.jpg"/>
          <p:cNvPicPr/>
          <p:nvPr/>
        </p:nvPicPr>
        <p:blipFill>
          <a:blip r:embed="rId5"/>
          <a:stretch/>
        </p:blipFill>
        <p:spPr>
          <a:xfrm>
            <a:off x="2771640" y="2852640"/>
            <a:ext cx="1944720" cy="14558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J:\štěńata.jpg"/>
          <p:cNvPicPr/>
          <p:nvPr/>
        </p:nvPicPr>
        <p:blipFill>
          <a:blip r:embed="rId6"/>
          <a:stretch/>
        </p:blipFill>
        <p:spPr>
          <a:xfrm>
            <a:off x="5651640" y="4508640"/>
            <a:ext cx="2179440" cy="16318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J:\upír.jpg"/>
          <p:cNvPicPr/>
          <p:nvPr/>
        </p:nvPicPr>
        <p:blipFill>
          <a:blip r:embed="rId7"/>
          <a:stretch/>
        </p:blipFill>
        <p:spPr>
          <a:xfrm>
            <a:off x="3203640" y="4508640"/>
            <a:ext cx="1971720" cy="19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ACCC7-7486-46D3-AB4A-EC279D9DC856}" type="slidenum">
              <a:rPr b="0" lang="cs-CZ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583920"/>
            <a:ext cx="7772400" cy="5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Alkoholové psychóz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aranoidní alkoholická psychóza – u mužů na vrcholu alkoholové kariéry ( žárlivost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582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Amnestický syndr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1981080"/>
            <a:ext cx="77724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orsakovův sy – poruchy paměti, konfabulace. Zmatenost. Postižení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eriferních nervů. Popsán r.1887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a MR zmenšení hypokampu, mamilárních tělísek, talamu a zvětšení třetí ko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Zástupný symbol pro číslo snímku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BD51A-7666-4F81-A0DB-CB04BAD13231}" type="slidenum">
              <a:rPr b="0" lang="cs-CZ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škození mozku spojené s nadužíváním alkohol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85800" y="1980720"/>
            <a:ext cx="7772400" cy="649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Wernickeova encephalopatie – popsána v r. 1881 – rychlý nástup zmatenosti,ataxie, oční příznaky – oftalmoplegie a nystagm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Onemocnění není pouze etiologicky vázané na nadužívání alkoholu – porucha vstřebávání thiamin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le MKN E 51.1 – stav spojený s nedostatkem thiamin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Alkoholická demence – atrofie C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Zástupný symbol pro číslo snímku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67466-3273-4FF4-ABCB-98DE77D883B9}" type="slidenum">
              <a:rPr b="0" lang="cs-CZ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582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Wernickeova encefalopati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1981080"/>
            <a:ext cx="7772400" cy="25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Typický nález na MR – cytotoxický edém se symetrickými změnami v thalamu, mamilárních tělíscích a periventrikulárních oblastech  třetí ko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Zástupný symbol pro číslo snímku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39C9C-63BE-43A0-899B-4FA95F5524F3}" type="slidenum">
              <a:rPr b="0" lang="cs-CZ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376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škození mozku spojené s nadužíváním alkohol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85800" y="1981080"/>
            <a:ext cx="7772400" cy="39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Alkoholická demence - atrofie CNS ( frontální asociační kortex, hypotalamus, cerebelum – ztráty neuronů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U některých nemocných v průběhu několika týdnů až měsíců dochází k reverzibilitě kognitivního poškoze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Zástupný symbol pro číslo snímku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CD5FC-D125-446C-97BC-705A7C46E2AE}" type="slidenum">
              <a:rPr b="0" lang="cs-CZ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CEA9C-166D-450E-933C-7D595D83875D}" type="slidenum">
              <a:rPr b="0" lang="cs-CZ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583920"/>
            <a:ext cx="7772400" cy="5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omorbidi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sychiatrickou diagnózu má 40 – 60 % závislých žen a 20 – 40% závislých muž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ejčastější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ruchy osobno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afektivní poruc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anické úzkostné poruc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ociální fob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mentální anorex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83880"/>
            <a:ext cx="7772400" cy="158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evence škodlivého užívání alkoholu u duální dg. Řádná medik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85800" y="1981080"/>
            <a:ext cx="77724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SRI, NSRI, stabilizátory nálady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Cave vyvarovat se návykovým bzd, hypnotikům ap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Léky proti bažení – Campral(  Acamprosat), Adepend (Naltrexon), Carbamazep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enzitizující th – Antabus ( Disulfira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Lék na snížení spotřeby alkoholu a i částečně bažení – Selincro (Nalmefe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Zástupný symbol pro číslo snímku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688EF-DA3E-4499-901A-ECE2AFD4EFA7}" type="slidenum">
              <a:rPr b="0" lang="cs-CZ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6DF55-D560-4067-97B8-848475DD004A}" type="slidenum">
              <a:rPr b="0" lang="cs-CZ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583920"/>
            <a:ext cx="7772400" cy="5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Fetální alkoholový syndrom ( FA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038120" y="1353600"/>
            <a:ext cx="4953240" cy="22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stižení dítěte v prenatálním vývoji, konzumace denní dávky 60 ml čistého alkoholu, stačí již dávka kolem 30 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4" descr="D:\Toxikologie\Přednášky\Moje 2004\Toxx-P11-2004\FAS2.jpg"/>
          <p:cNvPicPr/>
          <p:nvPr/>
        </p:nvPicPr>
        <p:blipFill>
          <a:blip r:embed="rId1"/>
          <a:stretch/>
        </p:blipFill>
        <p:spPr>
          <a:xfrm>
            <a:off x="304920" y="1295280"/>
            <a:ext cx="3733560" cy="246060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5"/>
          <p:cNvSpPr/>
          <p:nvPr/>
        </p:nvSpPr>
        <p:spPr>
          <a:xfrm>
            <a:off x="304920" y="3908520"/>
            <a:ext cx="861048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říznaky F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nízká porodní hmotn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změny v oblasti hlav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oruchy C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ostižení orgánů a částí tě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Jsou-li pouze poruchy chování a intelektu hovoříme o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fetálním alkoholovém defekt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D748F-7820-485C-A380-919624270084}" type="slidenum">
              <a:rPr b="0" lang="cs-CZ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376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hled na nadměrnou konzumaci alkoholu I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657240" y="1599840"/>
            <a:ext cx="5181480" cy="26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 Bibli je přibližně dvě stě zmínek o vinici a víně, rovněž je zde popsána opilost, kdy Noe neznal omamnou sílu vína a vypil více než snes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5" descr="lahve vína"/>
          <p:cNvPicPr/>
          <p:nvPr/>
        </p:nvPicPr>
        <p:blipFill>
          <a:blip r:embed="rId1"/>
          <a:stretch/>
        </p:blipFill>
        <p:spPr>
          <a:xfrm>
            <a:off x="380880" y="1600200"/>
            <a:ext cx="3248280" cy="266688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6"/>
          <p:cNvSpPr/>
          <p:nvPr/>
        </p:nvSpPr>
        <p:spPr>
          <a:xfrm>
            <a:off x="380880" y="4462560"/>
            <a:ext cx="85345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Car Petr Veliký oceňuje opilce těžkou litinovou medailí na krk s nápisem „ za opilství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tředověk a renesance jsou spojeni s rozvojem pivovarnictví a lihovarnictví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09EE8-881E-4778-AB43-D579BA099A7E}" type="slidenum">
              <a:rPr b="0" lang="cs-CZ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583920"/>
            <a:ext cx="7772400" cy="5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omatické důsledky alkoholismu 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248520" y="1218960"/>
            <a:ext cx="259056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Největší riziko vzniku rozvoje alkoholické cirhózy mají jedinci s příjmem alkoholu nad 120gr. za den. Jedná se o 9. nejčastější příčinu úmrtí v popula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icture 4"/>
          <p:cNvSpPr/>
          <p:nvPr/>
        </p:nvSpPr>
        <p:spPr>
          <a:xfrm>
            <a:off x="285840" y="1447920"/>
            <a:ext cx="588636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295920" y="5732640"/>
            <a:ext cx="85042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u jedinců s příjmem 60 gr alkoholu za den se rozvine jatern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teatóza u 60% případ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7" descr="jatýrka"/>
          <p:cNvPicPr/>
          <p:nvPr/>
        </p:nvPicPr>
        <p:blipFill>
          <a:blip r:embed="rId1"/>
          <a:stretch/>
        </p:blipFill>
        <p:spPr>
          <a:xfrm>
            <a:off x="1908000" y="1413000"/>
            <a:ext cx="325440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CBEFE-B4F0-471D-BE71-51C92AFF0745}" type="slidenum">
              <a:rPr b="0" lang="cs-CZ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583920"/>
            <a:ext cx="7772400" cy="5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omatické důsledky alkoholismu I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39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Akutní a chronická pankreatitida – 50% souvisí se škodlivým užíváním alkohol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Atrofická gastriti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ozšíření srdce (tzv. mnichovské srdce) u pijáků piv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Alkoholická kardiomyopat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582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omatické důsledky alkoholismu I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Zástupný symbol pro číslo snímku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77D07-BF64-498A-8B20-690ABF1ED387}" type="slidenum">
              <a:rPr b="0" lang="cs-CZ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980720"/>
            <a:ext cx="7772400" cy="30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Alkohol je z 1/3 příčinou vzniku arytmie – fibrilace síní u pacientů do 65 l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holiday heart“ – nárazová konzumace alkohol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íce než 5 nápojů denně spojeno s náhlou srdeční smrt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CF31A-B610-41A8-BEC3-AC5813C5C173}" type="slidenum">
              <a:rPr b="0" lang="cs-CZ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583920"/>
            <a:ext cx="7772400" cy="5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omatické důsledky alkoholismu II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3452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rucha humorální regul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kles hladiny hormon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u mužů – testosteron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u žen estrogen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(alkohol bere ženám ženskost a mužům mužnos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Hematologické projevy ( poruchy srážlivosti a krvácivosti, anémi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Alkoholové excesy jsou spojeny se zvýšeným rizikem  koronárních příhod, rozvojem hypertenze a rizikem cévních mozkových příh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8108E-D22D-4A55-81B4-9B2F90A0ED7C}" type="slidenum">
              <a:rPr b="0" lang="cs-CZ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583920"/>
            <a:ext cx="7772400" cy="5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omatické důsledky alkoholismu IV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0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Alkoholické polyneuropat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u 20% nemocných, více forem např. ataktická forma připomíná tabes dorsal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Alkoholická encefalopat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Alkoholická epileps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Atrofie mozku, mozečk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rezentované nižší riziko kardiovaskulárních příhod se udává u dávek alkoholu kolem 20 gramů/den oproti abstinentům, při této dávce však již hrozí rozvoj kolorektálního karcinomu. Prokázán byl podíl alkoholu na vzniku nádorů horního trávicího traktu a hepatocelulárního karcinom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582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debírání Ř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85800" y="1980720"/>
            <a:ext cx="777240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U dg.F 10.2 Závislost na alkoholu se odebírá řidičské oprávnění na dobu 1 roku ( po prokázání roční abstinence může nemocný žádat o jeho navrácení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U dg. F 11.- F19. Závislost na nealkoholových návykových látkách se odebírá Ř0 na dobu 2 let ( po 2 leté abstinenci se navrací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Zástupný symbol pro číslo snímku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5EE2D-653C-45A8-BDFE-0708559928C9}" type="slidenum">
              <a:rPr b="0" lang="cs-CZ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Zástupný symbol pro číslo snímku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0C44-CC7A-413C-B1E0-F7043401F834}" type="slidenum">
              <a:rPr b="0" lang="cs-CZ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762120" y="5335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Budoucnost patří střízlivým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5105520" y="571500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.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G.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Masary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Picture 5" descr="1928 TGM"/>
          <p:cNvPicPr/>
          <p:nvPr/>
        </p:nvPicPr>
        <p:blipFill>
          <a:blip r:embed="rId1"/>
          <a:stretch/>
        </p:blipFill>
        <p:spPr>
          <a:xfrm>
            <a:off x="380880" y="1523880"/>
            <a:ext cx="3571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44657-9B8C-4BE3-8885-BCED11351CBE}" type="slidenum">
              <a:rPr b="0" lang="cs-CZ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376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hled na nadměrnou konzumaci alkoholu II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666520" y="1714680"/>
            <a:ext cx="6172200" cy="397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Alkahal – jemná sub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Čistý destilovaný alkohol vyroben muslimy v roce 600 n.l.,v 8.-9-století užití v medicín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piritus – 13. století,Arnaud de Villeneuve – brandy (ohnivá voda mistra Arnauda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estilační přístroj – 1469 Švédsk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1498 - alkohol jako lék, za 100 let do pohostinstv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4" descr="Jelínek produkty-slivovice"/>
          <p:cNvPicPr/>
          <p:nvPr/>
        </p:nvPicPr>
        <p:blipFill>
          <a:blip r:embed="rId1"/>
          <a:stretch/>
        </p:blipFill>
        <p:spPr>
          <a:xfrm>
            <a:off x="228600" y="1523880"/>
            <a:ext cx="2270160" cy="28195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5"/>
          <p:cNvSpPr/>
          <p:nvPr/>
        </p:nvSpPr>
        <p:spPr>
          <a:xfrm>
            <a:off x="304920" y="484812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še nasvědčuje tomu, že šenkovnictví se věnovaly především ženy, tato činnost byla považována za podřadnou. Například ve Francii nebyli hostinští až do Velké francouzské revoluce gpřijímáni mezi měšťanské cec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4DA2B-F247-44C5-9E0A-8FF191E8401E}" type="slidenum">
              <a:rPr b="0" lang="cs-CZ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376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hled na nadměrnou konzumaci alkoholu IV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18.století USA a anglosaské země řeší problém nadměrného pijáctví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1784 – v USA Benjamin Rush popsal pijáctví jako rozbouření vůle vedoucí k chudobě, bídě a zločin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Anglie Trotter: nadměrné pití vede k šílenství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aopak Francii ve stejném období nezajímá zda pijáctví je nemoc, neřest nebo hří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647D5-E02F-446F-AA11-EB643F79871F}" type="slidenum">
              <a:rPr b="0" lang="cs-CZ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376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hled na nadměrnou konzumaci alkoholu V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4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1849 Švéd Magnus Huss poprvé užívá termínu chronický alkoholism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oučasný význam pochází od francouzského lékaře Gabriela z roku 186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 2. polovině 19. století v USA jsou zakládány azyly pro zajištění somatické a morální péče pro opilé občan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zniká řada laických svépomocných organizací a spolků. Hnutí Modrý a Zlatý kříž, Mezinárodní organizace dobrých templář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rmila Šmoldasová</dc:creator>
  <dc:description/>
  <dc:language>en-US</dc:language>
  <cp:lastModifiedBy>Uživatel systému Windows</cp:lastModifiedBy>
  <dcterms:modified xsi:type="dcterms:W3CDTF">2020-04-07T05:44:31Z</dcterms:modified>
  <cp:revision>253</cp:revision>
  <dc:subject/>
  <dc:title>PowerPoint Presentation</dc:title>
</cp:coreProperties>
</file>